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331-8C71-46EC-A245-E31D7492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5A2-BD83-4FA7-9361-9A66E79C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CC691-4E10-4DB0-9484-DEBDCFB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0EAA2-90D3-45F9-B9A1-BD451F83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F535E-7F51-4B54-A795-19894EB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1342D-9E1B-4A82-AF78-2E3A358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22F7D-ED3C-4E48-9910-66BD16D2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ACBA9-759E-42CA-901A-6C3C7097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9122E-4DB7-4D5E-9482-CBDC073B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39925-4593-43E5-910B-EA6E36A6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2CBCF-E49A-40E0-B7FB-E8AB25E1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80009-DF4E-4EF4-A41D-CE7E134C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B8A-8BD2-470A-A8E1-8D09CC36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145AD-28FB-48C1-99A7-591AB422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55693-B7CA-43A3-93A5-469500F9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7C395-D6EC-4179-AB36-CF016865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4B067-E961-4D12-90D6-348FE75C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2F9DD-0ABA-4F4E-BFBF-1F8CDA07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FF39F-AA10-4B71-B78A-CB0DFD11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2352E-8F3C-47A7-AFCF-C507124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E416A-ECA7-4A0A-9DB6-05FD486D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18A1F-354B-4547-84F8-3784A429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C76A6-B3A2-4A12-8F15-8C0D0265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000-7681-4EEF-8399-C6F8B7AC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8F4D4-CF64-4F60-8BD6-E4606545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733D1-520A-4BC2-95D4-EB9EBF34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965A5-1B26-47AF-9A10-0121197A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6E9A7-B104-4561-A767-F5662099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EFB1B-6E1E-4812-A510-D0F0989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6134-F71E-4E44-89FA-ED1E629A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4B98E-164B-47EC-8994-EF38DC93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7B232-E33A-4C01-A3D1-E26A584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E5FA5-1636-44AC-B686-EF67D8C1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29F3B-B539-45C3-80CC-99BE2047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79BE-1BE1-4913-9715-B1530E7F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868D1-366F-4BA6-8E49-E25D086D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FFFEB-DF90-49EF-BD92-113112DE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E69BD-049F-4566-A25E-45C4EF0F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67F92-21D5-4743-BDDF-B0DDAEFD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CADCF-9A40-492C-AD7E-AFCE211D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CD953-D7A4-49C4-8203-70983F4E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F2F7B-2112-46A9-A49D-F1DD1AE4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15138-6B6B-4708-955F-E4059AC6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04021-5460-4A49-A5C3-DCD571D5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7CB6D-3A0A-4574-B12B-C7B490A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0BB9-2F5A-48D7-9E78-330FE5C9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C82B0-75F5-4FEB-B0E8-CFD90AA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F2A92-7702-4948-BB32-F84B27AF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EB427-80FE-46E2-935D-D8B748A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0242-65AA-4196-9F63-CF30936A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03CE1-9196-4CA7-B6DF-B6D0CD2C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B6CE5-0A08-44F3-A789-08A2FDC3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84820-902E-4EB4-8532-B5FEFB6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14C9F-0957-4376-9101-248DC447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2D2DA-0C12-4144-8816-5D43931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DD93F-B0D7-4C31-B0D2-53BD9D77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4975-E239-45DA-96CA-43C0FAA9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98CFB-D208-413B-AE9C-766DD49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3EC5C-7BE9-4013-AFE0-36AFD8C2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D69AB-B4AA-418E-A4C2-FFC09A6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24597-4D3D-4601-AA5D-135CC9D3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C0514-4078-4AEE-95D9-0F132BE0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6C89E-B1D2-4DB6-A0EE-420E6508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4EB1F-8383-4B79-AC65-C91A3509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FDABA-5844-414F-B27C-E224197A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C0814-5034-49AE-8353-032E4D17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9735B-7425-4D77-9D71-42B7069A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4478-E2C0-4574-B82A-D93BF1B0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610C1-CA29-4CC4-8491-156FBA9A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5E0D3-157B-4D5B-B5E0-9B134403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2C9E6-50E3-4A42-8D73-B8F977CC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1DA3A-D1BD-412A-8F8D-2F16A520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6C392-5177-4459-97D5-58EEEDBF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6EA52-7862-468C-B644-16F53169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44CCD-88AC-43A1-95EF-D5E33FD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39D63-94F1-496E-AEED-1A5C1F07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A2FF6-A225-4F23-B721-DC629FB3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17E7A-FC00-4F25-B674-97542B6E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A4FE-C350-41D4-A5DF-58BA950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5EB76-9446-4D9D-ADDB-3B8E7963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F48E9-B1AE-4550-B422-5BEAB78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8EADE-47F2-4043-8421-466009CE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0F7B5-9E3C-4223-9CE1-6496DCDB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067AF-39DC-4AEF-95B1-616F09DF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066F2-4C43-4346-801F-789FBDF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B3160-319D-42CF-934D-502CEBEE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55F6E-FB68-403D-9AB3-9205797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D76B1-3E47-4FCB-A21E-EB5609E9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16382-759F-491D-A537-E9CCD95A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1007-D2FC-42F6-AAFC-9C253627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9CA26-7856-4146-954A-34C53DCF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9481A-5E7C-40B8-AE28-D86BA83E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EE973-17BB-4A85-A0C8-BDCA4F03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04A01-B1CF-456D-BC4E-9EAC9335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BE4CC-44F3-4673-8E73-244B5D45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AD3B5-2B1D-496E-B274-592BB76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46F95-67FF-4B42-83F9-0963F30B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AE954-0BE4-4ED3-94E9-CD8EA47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90C83-49F9-45B5-AED5-1F82B19C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C3D7A-43E5-45BD-8BA6-ACBFB60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0C8D-E07E-418C-8B71-D5F5707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50782-D8EE-4E47-9260-D19A364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437FB-3110-4095-8204-5DE1016F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18502-3093-45EB-A1D9-3D3055B4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4AE41-E7B4-481E-BD91-B7FEB271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DBF7F-D31C-4A7C-AA95-6B3A986E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5ED3CB-BFF2-43F9-A001-14BC7318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195C79-FCAD-47F5-AD43-A51EC33C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A7E9F-1EEC-4FCF-919F-06DDB099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23989-2789-4E5F-B3C5-E89BAC6A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094F6-878A-47C7-A489-8755303B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D0F-4C74-43AB-94F1-AAF18E73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79FB-3CD5-4A08-A88A-22EDC8BC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63EB6-3F7E-4825-9C73-07EDA3A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455AA-174A-4F2B-91ED-1129498F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D15F3-F66D-4C47-B424-C41D1D75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44859-F6B3-4C19-A5E5-8CCF951D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6F81A-1119-453D-A913-9B2506B1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7DEE0-9A7A-4F20-A337-7729DFF9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B6CA44-A398-49C4-9648-DA963B96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779BD5-139D-44A1-B064-555413B0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6E8034-6CC9-4534-B978-15C8B9ED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CC68A-4232-493F-8C61-ECDA0B4A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5BA4-44E8-4A30-B5D8-E8F878E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F870B-CCF4-4A50-AB54-B51280D7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F2532-848F-4396-B16B-013750B7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2A94B-197A-400D-B743-EEADB17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5CB92-102E-409B-9F43-B24248D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4AAA29-0DCB-4FA8-8E3A-35EB2440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39198-82FF-4B60-AA44-5544E35F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5256F-BCBE-4281-B670-BC710711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DBEA8-FB65-490E-8C3A-04BCCC5F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8D98D-0039-409F-BC9D-EBDB70E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618D8-E48E-4183-B494-DFD13B0E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D30-EE3A-458D-BE78-667B09A8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D30B0-87E8-4238-9D00-197A4122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73A6B-88E7-477D-8DF9-65556793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0378D2-3496-4000-9BE9-BA5936C2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A73EA-F6EE-471D-B345-1F10C8FC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D8C51-7B5C-4058-80EE-859E1A99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14F18-ECD6-41DA-8F37-BC5F9615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1004B-C666-413F-92A0-D49C7AC2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1AA41-F045-4B49-85B3-7D334D03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A1B87-CD2D-468B-A0E6-0716DBA2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00941-2C0D-48D9-A4CB-A5FE56D7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26AD-45D0-494C-9DA1-8254D580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80F795-844C-4523-AC79-55077881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49B21-2807-481B-ABF2-DA1DBC68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09A01-47BF-4DA2-BA4C-60483AA8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13E85-C38F-4265-85F3-C6AC7904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041EFF-CB12-4FE9-A24E-7654CA5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3D53B-2475-49D5-B999-4D838B7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2BB21-BAE2-4D76-BF30-039CE348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7CF0A-E329-4AF1-83E7-42DDCE2E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35AD5-6F26-454C-984B-4BAAA5AE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F56C0-E668-4EFD-A745-25BA0B9A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C591-8D15-4415-9AD7-F4EA3446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FF620-817F-437B-911C-F9506FA3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92147-0BC1-4EF3-86A9-971BDB2D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46D2C3-8895-4948-805D-420F218E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FD388-C1BC-419A-B4DD-61C1141E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7B026A-42A8-475D-BEC9-5F049C29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09288-639D-4220-BA12-9024EA09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236244-F23F-4C29-B4DD-2349C115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83350-D4AD-4963-A86C-7E54C23C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C5CE55-E669-4ED0-BF1D-079C170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9F4F2-DDCF-4113-B6AF-E0244521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88E9-89F0-4358-944A-C100E35D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A0890-3A1F-4100-A613-7ED5BAA0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D504FF-BE07-48DA-8FCF-B4320562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3C807-CC59-4ED6-9DA8-EAB6E151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423E-6C42-440C-9D11-FD248C6B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E387-FF20-4E3E-8F7C-6106646D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3312-A7C6-46D3-975A-2031225F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B66C-7A5C-4816-AE50-A1845E1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4E7-6CFA-4FEF-B886-948EE89D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2523-D06C-4D61-A056-78D736F7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2041-E369-4AD2-AA02-A0F99E2C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9C79-6EF4-44FE-9B39-573C6401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49D1-B950-4466-9946-83279E1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8E24-EB16-4E87-984B-B34283E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B541-C2AC-4895-9E3C-39C0AC25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2A66-366D-4FAA-B13A-61ED5A2B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4B08-78D0-40CB-816C-907D905C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6BB0-75B6-406E-A530-EAD1265C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0980-C3E7-4BC4-8E88-834A508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261-FC53-4044-979D-8201EC4A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52FE-624D-4113-A8F8-DB54AA40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0ABC-6C9D-4163-B3C0-CE695E79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745A-9706-45E8-8D26-AFBCF7A4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9C99-4CD9-4C35-BA3B-6F6BD71B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9C4B-9484-4197-A50F-7A3F278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C935-FBDC-4B05-826E-6C99273E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6317A-DA48-463C-BFCD-BC7C57CB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48C9-FDCE-4BA0-9AF4-86FB6703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3F03-09F1-4538-9747-7EFE6EBE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60683-AC5F-4E43-BCE8-B8CD09E1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B3C-F892-4169-A1EA-DCB3B00C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B8D2-E6D9-47A0-B254-279F42CF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9BB9-F9B5-435B-AE88-F7C05B74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53E8-5AFF-4BD6-BB7A-841EF990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613C-0B93-4B66-9D44-69D51BEA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7AFFC-C1C1-4F9B-BFC2-EE441901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0B645-C95B-45C7-B926-22B00638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CFFD-C4E1-447D-A7AC-F32B289A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62952-FDB5-4D46-999D-497D35E2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BAD85-A50F-4CE3-AD5A-CE4BD5E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4895-F517-49B7-9F81-3E3AB1DC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E6D-AAA4-43BD-9FEB-6D19A5A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E79FC-88B7-405F-AED9-5A463699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4AD1-874E-4994-B891-43B9716A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E466F-FCF7-4922-A2FA-BEE4B363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CBF86-5337-482D-8B05-B8DCAC53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00435-4AFC-4B41-AD99-ED0790FF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8107-22C0-40A7-ABE8-B5B4BECC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30E3-4BA0-4912-BC90-46CDFB7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82509-03FC-4E98-9DBE-DAEA2047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52A4-5AE9-4804-9E8B-CC1F71D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C87C-76BE-4B74-9256-E5DF13A8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671-BD6C-4A98-A93E-B06D638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FA35F-C1AC-4F83-BF22-5932EC06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43B12-4816-4D4D-BE37-FB0898D6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0C86-94E3-454C-B1F3-660F749B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C5750-1AC0-40AA-9D93-AFFD51CD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7B43B-38F3-4C58-82F0-5B0D3BE4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917D2-F0A9-455E-840F-BEE55C9D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D6DB2-6CBB-4668-ABAA-678214A8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E8061-2F1F-48EB-9289-1D611F6C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244E1-DF45-48B8-BF43-9817966D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DAA0D-7371-4768-AD58-D597DB9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B0D-A179-4B14-B324-2ED4D6FC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EC82-51B1-4F59-8ED3-12556C93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9C65C-3D0A-4AFE-A609-D2C6103A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803C-230A-48E4-9619-8CA80667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8D7B3-4832-4714-9781-741DC640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55AAC-EEF3-4324-A4DC-9F5BD43E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74F81-8083-45B0-BACA-B0A83FF6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4156F-D7C0-4A29-8A71-318409E9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0D8D5-F794-41A6-8A1C-08771706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31215-FA27-4573-BE9C-2AEFAE44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9FFEB-C7F4-4406-9930-70A4445F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1F9-BFDD-4423-9FD6-60AE0FE9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98135-8A84-468F-B4CB-06B3547D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B977F-6A2E-4424-B266-288D3550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60B47-6AF6-4134-A2FE-79634BA3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B91B8-A019-416E-8F4B-7E461638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AEC8F-7FC5-4116-9D46-07053F59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C9F07-485E-4CD2-B3A2-5330B5AC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CDEA2-E1CC-41B2-9EFD-D605C287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2AC48-DF68-4E76-8A7A-394AE295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630A5-185F-4F0B-80EC-A44420C3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82D48-85AB-4B9C-BE76-B0FF8A63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FD78-0050-413A-9D5B-50E2C449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37EC-702B-40E5-BD02-6765EFD95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F1C-755C-44DC-980B-8A4A3E0401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4F78-A41D-4A13-8838-0C80C5B797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88A-EEA2-4D7E-B353-710F9C505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339A-5E50-4D10-B775-716AD56FC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25A7-C5D4-4033-8149-143D4AFED0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8503-241D-406A-B17D-EB1571D6B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7FDF-7FFF-40D0-89AB-0FFF379C3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95E-8968-40C7-84EE-155DAAD7EE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746-FD87-4761-B914-292F318923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F2C1-4856-407A-A6AA-3E5167894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3DC2-E7C5-4466-82F4-2C3B5F0341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27BE-411A-4331-9836-BE0E429E5D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BDCA-EB12-42B5-A972-A482429D9A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5668-5E7B-40AD-BB79-0CA333A64D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CB4-7E26-4301-821F-BBF9C0EAC6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FC9E-A462-4196-A089-6D293575B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1261-87C6-4827-B3ED-7D6A4A9214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B28-EEA7-4A3A-A631-986F4B2A52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351B-4FD4-4341-98FE-EA5CD7EDB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F187-79D3-4CCC-A80F-BEBD63F8FE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CF98-A84A-44B3-A192-788115D20D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AA2E-8C19-4DED-A12F-116DE2135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952-B139-42AE-9853-EB984651AE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830-15C3-4D7E-8541-21BE6C64F4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0403-8EED-4E5E-9824-F26F93075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5E2E-C9C6-4E89-B448-B88A71C85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946-DEBC-4CCD-A574-1475AEB2D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F27A-1543-49D2-8011-A5CA9B6D4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9FCD-E624-4F73-B4A8-5DE3F29AC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3967-D6D9-469D-BCA4-4F7CF0AAA4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1E3-7EA0-467B-A996-18D581F16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8A19-68DD-476D-BFC7-9A5445853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D43C-0F39-4CF4-8654-919910185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1326-848F-4D22-AFA0-DE36BCA872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1F34-C41F-4693-A442-0F9C9F00A7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59A0-FDD5-4FF8-8C5C-C4AC3297C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2919-68CA-443A-AFBA-E11952E37D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8D59-3491-46DB-A77E-D76F54A54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00360" y="3114720"/>
            <a:ext cx="37432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63360" y="1104840"/>
            <a:ext cx="9017280" cy="5019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763640" y="2468520"/>
            <a:ext cx="792360" cy="249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292720" y="2478240"/>
            <a:ext cx="792000" cy="249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8172360" y="2468520"/>
            <a:ext cx="792360" cy="249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763640" y="2781360"/>
            <a:ext cx="792360" cy="249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435640" y="2771640"/>
            <a:ext cx="792000" cy="249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2411280" y="3367080"/>
            <a:ext cx="792360" cy="249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4913280" y="3357720"/>
            <a:ext cx="792360" cy="249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812000" y="3367080"/>
            <a:ext cx="792360" cy="249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1835280" y="3664080"/>
            <a:ext cx="792000" cy="249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4932360" y="3664080"/>
            <a:ext cx="792000" cy="249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808200" y="5554800"/>
            <a:ext cx="431640" cy="249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3276720" y="5554800"/>
            <a:ext cx="431640" cy="249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5"/>
          <a:stretch/>
        </p:blipFill>
        <p:spPr>
          <a:xfrm>
            <a:off x="6649920" y="5560920"/>
            <a:ext cx="432000" cy="249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6"/>
          <a:stretch/>
        </p:blipFill>
        <p:spPr>
          <a:xfrm>
            <a:off x="755640" y="5877000"/>
            <a:ext cx="431640" cy="249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7"/>
          <a:stretch/>
        </p:blipFill>
        <p:spPr>
          <a:xfrm>
            <a:off x="3286080" y="5877000"/>
            <a:ext cx="43200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79200" y="1881360"/>
            <a:ext cx="9042480" cy="29984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26920" y="282420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826920" y="31226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826920" y="342900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826920" y="371628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826920" y="401472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7"/>
          <a:stretch/>
        </p:blipFill>
        <p:spPr>
          <a:xfrm>
            <a:off x="826920" y="432108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8"/>
          <a:stretch/>
        </p:blipFill>
        <p:spPr>
          <a:xfrm>
            <a:off x="826920" y="4624560"/>
            <a:ext cx="36036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38160" y="1216080"/>
            <a:ext cx="90676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1:31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